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</p:sldIdLst>
  <p:sldSz cx="8129588" cy="56372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654048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87320" y="3325320"/>
            <a:ext cx="654048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787320" y="152280"/>
            <a:ext cx="6540480" cy="65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78732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13856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787320" y="3325320"/>
            <a:ext cx="654048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654048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787320" y="3325320"/>
            <a:ext cx="654048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78732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13856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2998800" y="160020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209920" y="160020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787320" y="332532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2998800" y="332532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209920" y="332532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8732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13856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787320" y="1600200"/>
            <a:ext cx="65404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654048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787320" y="152280"/>
            <a:ext cx="6540480" cy="65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78732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13856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787320" y="3325320"/>
            <a:ext cx="654048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654048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787320" y="3325320"/>
            <a:ext cx="654048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78732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13856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98800" y="160020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209920" y="160020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87320" y="332532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998800" y="332532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209920" y="332532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2998800" y="160020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209920" y="160020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787320" y="332532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2998800" y="332532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5209920" y="332532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787320" y="1600200"/>
            <a:ext cx="65404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654048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787320" y="152280"/>
            <a:ext cx="6540480" cy="65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78732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13856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787320" y="3325320"/>
            <a:ext cx="654048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654048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787320" y="3325320"/>
            <a:ext cx="654048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78732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13856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2998800" y="160020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209920" y="160020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787320" y="332532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2998800" y="332532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209920" y="332532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787320" y="1600200"/>
            <a:ext cx="65404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654048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787320" y="152280"/>
            <a:ext cx="6540480" cy="65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8732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87320" y="1600200"/>
            <a:ext cx="65404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13856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787320" y="3325320"/>
            <a:ext cx="654048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654048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787320" y="3325320"/>
            <a:ext cx="654048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78732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13856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2998800" y="160020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209920" y="160020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787320" y="332532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2998800" y="332532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209920" y="332532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787320" y="1600200"/>
            <a:ext cx="65404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654048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654048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787320" y="152280"/>
            <a:ext cx="6540480" cy="65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78732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13856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787320" y="3325320"/>
            <a:ext cx="654048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654048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787320" y="3325320"/>
            <a:ext cx="654048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78732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13856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2998800" y="160020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209920" y="160020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787320" y="332532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2998800" y="332532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5209920" y="332532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787320" y="1600200"/>
            <a:ext cx="65404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654048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787320" y="152280"/>
            <a:ext cx="6540480" cy="65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78732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13856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787320" y="3325320"/>
            <a:ext cx="654048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654048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787320" y="3325320"/>
            <a:ext cx="654048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78732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13856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2998800" y="160020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209920" y="160020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787320" y="332532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2998800" y="332532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5209920" y="332532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87320" y="152280"/>
            <a:ext cx="6540480" cy="65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8732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87320" y="1600200"/>
            <a:ext cx="65404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13856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87320" y="3325320"/>
            <a:ext cx="654048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654048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87320" y="3325320"/>
            <a:ext cx="654048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8732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13856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98800" y="160020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09920" y="160020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87320" y="332532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2998800" y="332532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209920" y="332532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87320" y="1600200"/>
            <a:ext cx="65404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654048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654048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787320" y="152280"/>
            <a:ext cx="6540480" cy="65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8732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13856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87320" y="3325320"/>
            <a:ext cx="654048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654048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787320" y="3325320"/>
            <a:ext cx="654048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8732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13856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998800" y="160020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209920" y="160020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787320" y="332532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998800" y="332532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5209920" y="332532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787320" y="1600200"/>
            <a:ext cx="65404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654048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787320" y="152280"/>
            <a:ext cx="6540480" cy="65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78732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13856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787320" y="3325320"/>
            <a:ext cx="654048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654048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787320" y="3325320"/>
            <a:ext cx="654048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8732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13856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998800" y="160020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209920" y="160020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787320" y="332532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998800" y="332532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209920" y="332532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787320" y="1600200"/>
            <a:ext cx="65404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654048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787320" y="152280"/>
            <a:ext cx="6540480" cy="65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8732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13856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87320" y="3325320"/>
            <a:ext cx="654048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654048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787320" y="3325320"/>
            <a:ext cx="654048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8732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13856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87320" y="152280"/>
            <a:ext cx="6540480" cy="65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2998800" y="160020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209920" y="160020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787320" y="332532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2998800" y="332532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5209920" y="332532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787320" y="1600200"/>
            <a:ext cx="65404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654048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787320" y="152280"/>
            <a:ext cx="6540480" cy="65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78732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13856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787320" y="3325320"/>
            <a:ext cx="654048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8732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654048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787320" y="3325320"/>
            <a:ext cx="654048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8732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13856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998800" y="160020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209920" y="160020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787320" y="332532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2998800" y="332532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209920" y="332532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787320" y="1600200"/>
            <a:ext cx="65404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654048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787320" y="152280"/>
            <a:ext cx="6540480" cy="65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78732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13856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13856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87320" y="3325320"/>
            <a:ext cx="654048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654048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787320" y="3325320"/>
            <a:ext cx="654048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8732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13856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998800" y="160020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209920" y="160020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787320" y="332532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998800" y="332532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209920" y="332532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787320" y="1600200"/>
            <a:ext cx="65404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654048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87320" y="3325320"/>
            <a:ext cx="654048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787320" y="152280"/>
            <a:ext cx="6540480" cy="65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8732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13856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787320" y="3325320"/>
            <a:ext cx="654048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654048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787320" y="3325320"/>
            <a:ext cx="654048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138560" y="160020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78732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138560" y="3325320"/>
            <a:ext cx="319140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2998800" y="160020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209920" y="160020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787320" y="332532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2998800" y="332532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209920" y="3325320"/>
            <a:ext cx="2105640" cy="157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787320" y="1600200"/>
            <a:ext cx="65404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87320" y="1600200"/>
            <a:ext cx="654048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87320" y="2908440"/>
            <a:ext cx="6540480" cy="66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87320" y="952560"/>
            <a:ext cx="654048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86960" y="1600200"/>
            <a:ext cx="314964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2000"/>
          </a:bodyPr>
          <a:p>
            <a:pPr marL="493200" indent="-316080">
              <a:spcBef>
                <a:spcPts val="22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1" marL="774360" indent="-316440">
              <a:spcBef>
                <a:spcPts val="22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22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3" marL="1347120" indent="-316080">
              <a:spcBef>
                <a:spcPts val="22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4" marL="1628280" indent="-316440">
              <a:spcBef>
                <a:spcPts val="22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5" marL="1628280" indent="-316440">
              <a:spcBef>
                <a:spcPts val="22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6" marL="1628280" indent="-316440">
              <a:spcBef>
                <a:spcPts val="22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87320" y="1600200"/>
            <a:ext cx="654048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5000"/>
          </a:bodyPr>
          <a:p>
            <a:pPr marL="571320" indent="-366120">
              <a:spcBef>
                <a:spcPts val="22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1" marL="897120" indent="-366480">
              <a:spcBef>
                <a:spcPts val="22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2" marL="1222920" indent="-366120">
              <a:spcBef>
                <a:spcPts val="22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3" marL="1560600" indent="-366120">
              <a:spcBef>
                <a:spcPts val="22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4" marL="1886760" indent="-366480">
              <a:spcBef>
                <a:spcPts val="22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5" marL="1886760" indent="-366480">
              <a:spcBef>
                <a:spcPts val="22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6" marL="1886760" indent="-366480">
              <a:spcBef>
                <a:spcPts val="22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851000" y="1600200"/>
            <a:ext cx="247644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0000"/>
          </a:bodyPr>
          <a:p>
            <a:pPr marL="420840" indent="-269640">
              <a:spcBef>
                <a:spcPts val="22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70000">
              <a:spcBef>
                <a:spcPts val="22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2" marL="901080" indent="-269640">
              <a:spcBef>
                <a:spcPts val="22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3" marL="1149840" indent="-269640">
              <a:spcBef>
                <a:spcPts val="22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4" marL="1389960" indent="-270000">
              <a:spcBef>
                <a:spcPts val="22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5" marL="1389960" indent="-270000">
              <a:spcBef>
                <a:spcPts val="22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6" marL="1389960" indent="-270000">
              <a:spcBef>
                <a:spcPts val="22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86960" y="1600200"/>
            <a:ext cx="314964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2000"/>
          </a:bodyPr>
          <a:p>
            <a:pPr marL="493200" indent="-316080">
              <a:spcBef>
                <a:spcPts val="22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1" marL="774360" indent="-316440">
              <a:spcBef>
                <a:spcPts val="22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22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3" marL="1347120" indent="-316080">
              <a:spcBef>
                <a:spcPts val="22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4" marL="1628280" indent="-316440">
              <a:spcBef>
                <a:spcPts val="22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5" marL="1628280" indent="-316440">
              <a:spcBef>
                <a:spcPts val="22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6" marL="1628280" indent="-316440">
              <a:spcBef>
                <a:spcPts val="22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87320" y="1600200"/>
            <a:ext cx="654048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6000"/>
          </a:bodyPr>
          <a:p>
            <a:pPr marL="633600" indent="-426240">
              <a:spcBef>
                <a:spcPts val="13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marL="963000" indent="-426600">
              <a:spcBef>
                <a:spcPts val="13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 marL="1292040" indent="-426240">
              <a:spcBef>
                <a:spcPts val="13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1633320" indent="-426240">
              <a:spcBef>
                <a:spcPts val="13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4" marL="1962720" indent="-426600">
              <a:spcBef>
                <a:spcPts val="13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5" marL="1962720" indent="-426600">
              <a:spcBef>
                <a:spcPts val="13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6" marL="1962720" indent="-426600">
              <a:spcBef>
                <a:spcPts val="13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87320" y="1714320"/>
            <a:ext cx="6540480" cy="2197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787320" y="736200"/>
            <a:ext cx="6540480" cy="4178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3000"/>
          </a:bodyPr>
          <a:p>
            <a:pPr marL="613800" indent="-4129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marL="932760" indent="-4132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 marL="1251720" indent="-4129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1582560" indent="-4129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4" marL="1901520" indent="-4132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5" marL="1901520" indent="-4132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6" marL="1901520" indent="-4132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87320" y="4254480"/>
            <a:ext cx="6540480" cy="990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87320" y="4254480"/>
            <a:ext cx="6540480" cy="990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393480" y="2768400"/>
            <a:ext cx="3670200" cy="190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4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393480" y="812520"/>
            <a:ext cx="3670200" cy="190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393480" y="2768400"/>
            <a:ext cx="3670200" cy="190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4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393480" y="812520"/>
            <a:ext cx="3670200" cy="190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87320" y="152280"/>
            <a:ext cx="654048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08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080" cy="563868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1440" y="806400"/>
            <a:ext cx="8128080" cy="40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43434"/>
                </a:solidFill>
                <a:latin typeface="GeosansLight"/>
                <a:ea typeface="GeosansLight"/>
              </a:rPr>
              <a:t>Specifications</a:t>
            </a:r>
            <a:r>
              <a:rPr b="0" lang="en-US" sz="2200" spc="-1" strike="noStrike">
                <a:solidFill>
                  <a:srgbClr val="343434"/>
                </a:solidFill>
                <a:latin typeface="GeosansLight"/>
                <a:ea typeface="Lucida Grande"/>
              </a:rPr>
              <a:t>	</a:t>
            </a:r>
            <a:r>
              <a:rPr b="0" lang="en-US" sz="2200" spc="-1" strike="noStrike">
                <a:solidFill>
                  <a:srgbClr val="343434"/>
                </a:solidFill>
                <a:latin typeface="GeosansLight"/>
                <a:ea typeface="Lucida Grande"/>
              </a:rPr>
              <a:t>Measurement principal :           ultrasonic transit-time</a:t>
            </a:r>
            <a:r>
              <a:rPr b="0" lang="en-US" sz="2200" spc="-1" strike="noStrike">
                <a:solidFill>
                  <a:srgbClr val="343434"/>
                </a:solidFill>
                <a:latin typeface="GeosansLight"/>
                <a:ea typeface="Lucida Grande"/>
              </a:rPr>
              <a:t>	</a:t>
            </a:r>
            <a:r>
              <a:rPr b="0" lang="en-US" sz="2200" spc="-1" strike="noStrike">
                <a:solidFill>
                  <a:srgbClr val="343434"/>
                </a:solidFill>
                <a:latin typeface="GeosansLight"/>
                <a:ea typeface="Lucida Grande"/>
              </a:rPr>
              <a:t>Breathing tube diameter :         20 mm (ID)</a:t>
            </a:r>
            <a:r>
              <a:rPr b="0" lang="en-US" sz="2200" spc="-1" strike="noStrike">
                <a:solidFill>
                  <a:srgbClr val="343434"/>
                </a:solidFill>
                <a:latin typeface="GeosansLight"/>
                <a:ea typeface="Lucida Grande"/>
              </a:rPr>
              <a:t>	</a:t>
            </a:r>
            <a:r>
              <a:rPr b="0" lang="en-US" sz="2200" spc="-1" strike="noStrike">
                <a:solidFill>
                  <a:srgbClr val="343434"/>
                </a:solidFill>
                <a:latin typeface="GeosansLight"/>
                <a:ea typeface="Lucida Grande"/>
              </a:rPr>
              <a:t>Sensor weight :                        approx. 100 g (not including cable)</a:t>
            </a:r>
            <a:r>
              <a:rPr b="0" lang="en-US" sz="2200" spc="-1" strike="noStrike">
                <a:solidFill>
                  <a:srgbClr val="343434"/>
                </a:solidFill>
                <a:latin typeface="GeosansLight"/>
                <a:ea typeface="Lucida Grande"/>
              </a:rPr>
              <a:t>	</a:t>
            </a:r>
            <a:r>
              <a:rPr b="0" lang="en-US" sz="2200" spc="-1" strike="noStrike">
                <a:solidFill>
                  <a:srgbClr val="343434"/>
                </a:solidFill>
                <a:latin typeface="GeosansLight"/>
                <a:ea typeface="Lucida Grande"/>
              </a:rPr>
              <a:t>Dead space :                          30 ml</a:t>
            </a:r>
            <a:r>
              <a:rPr b="0" lang="en-US" sz="2200" spc="-1" strike="noStrike">
                <a:solidFill>
                  <a:srgbClr val="343434"/>
                </a:solidFill>
                <a:latin typeface="GeosansLight"/>
                <a:ea typeface="Lucida Grande"/>
              </a:rPr>
              <a:t>	</a:t>
            </a:r>
            <a:r>
              <a:rPr b="0" lang="en-US" sz="2200" spc="-1" strike="noStrike">
                <a:solidFill>
                  <a:srgbClr val="343434"/>
                </a:solidFill>
                <a:latin typeface="GeosansLight"/>
                <a:ea typeface="Lucida Grande"/>
              </a:rPr>
              <a:t>Flow Accuracy :                        +/- 3% or 20 ml/s</a:t>
            </a:r>
            <a:r>
              <a:rPr b="0" lang="en-US" sz="2200" spc="-1" strike="noStrike">
                <a:solidFill>
                  <a:srgbClr val="343434"/>
                </a:solidFill>
                <a:latin typeface="GeosansLight"/>
                <a:ea typeface="Lucida Grande"/>
              </a:rPr>
              <a:t>	</a:t>
            </a:r>
            <a:r>
              <a:rPr b="0" lang="en-US" sz="2200" spc="-1" strike="noStrike">
                <a:solidFill>
                  <a:srgbClr val="343434"/>
                </a:solidFill>
                <a:latin typeface="GeosansLight"/>
                <a:ea typeface="Lucida Grande"/>
              </a:rPr>
              <a:t>Flow Range :                            +/- 16 l/s</a:t>
            </a:r>
            <a:r>
              <a:rPr b="0" lang="en-US" sz="2200" spc="-1" strike="noStrike">
                <a:solidFill>
                  <a:srgbClr val="343434"/>
                </a:solidFill>
                <a:latin typeface="GeosansLight"/>
                <a:ea typeface="Lucida Grande"/>
              </a:rPr>
              <a:t>	</a:t>
            </a:r>
            <a:r>
              <a:rPr b="0" lang="en-US" sz="2200" spc="-1" strike="noStrike">
                <a:solidFill>
                  <a:srgbClr val="343434"/>
                </a:solidFill>
                <a:latin typeface="GeosansLight"/>
                <a:ea typeface="Lucida Grande"/>
              </a:rPr>
              <a:t>Flow Sampling Rate :                200 Hz</a:t>
            </a:r>
            <a:r>
              <a:rPr b="0" lang="en-US" sz="2200" spc="-1" strike="noStrike">
                <a:solidFill>
                  <a:srgbClr val="343434"/>
                </a:solidFill>
                <a:latin typeface="GeosansLight"/>
                <a:ea typeface="Lucida Grande"/>
              </a:rPr>
              <a:t>	</a:t>
            </a:r>
            <a:r>
              <a:rPr b="0" lang="en-US" sz="2200" spc="-1" strike="noStrike">
                <a:solidFill>
                  <a:srgbClr val="343434"/>
                </a:solidFill>
                <a:latin typeface="GeosansLight"/>
                <a:ea typeface="Lucida Grande"/>
              </a:rPr>
              <a:t>Interface type :                         USB</a:t>
            </a:r>
            <a:r>
              <a:rPr b="0" lang="en-US" sz="2200" spc="-1" strike="noStrike">
                <a:solidFill>
                  <a:srgbClr val="343434"/>
                </a:solidFill>
                <a:latin typeface="GeosansLight"/>
                <a:ea typeface="Lucida Grande"/>
              </a:rPr>
              <a:t>	</a:t>
            </a:r>
            <a:r>
              <a:rPr b="0" lang="en-US" sz="2200" spc="-1" strike="noStrike">
                <a:solidFill>
                  <a:srgbClr val="343434"/>
                </a:solidFill>
                <a:latin typeface="GeosansLight"/>
                <a:ea typeface="Lucida Grande"/>
              </a:rPr>
              <a:t>Electronics board dimensions :   length 81.5 mm, width 33.5 mm</a:t>
            </a:r>
            <a:r>
              <a:rPr b="0" lang="en-US" sz="2200" spc="-1" strike="noStrike">
                <a:solidFill>
                  <a:srgbClr val="343434"/>
                </a:solidFill>
                <a:latin typeface="GeosansLight"/>
                <a:ea typeface="Lucida Grande"/>
              </a:rPr>
              <a:t>	</a:t>
            </a:r>
            <a:r>
              <a:rPr b="0" lang="en-US" sz="2200" spc="-1" strike="noStrike">
                <a:solidFill>
                  <a:srgbClr val="343434"/>
                </a:solidFill>
                <a:latin typeface="GeosansLight"/>
                <a:ea typeface="Lucida Grande"/>
              </a:rPr>
              <a:t>Power Supply :                         USB: 5 V @ approx. 200 mA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08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080" cy="563868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-9360" y="127080"/>
            <a:ext cx="812628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GeosansLight"/>
                <a:ea typeface="GeosansLight"/>
              </a:rPr>
              <a:t>Economical</a:t>
            </a:r>
            <a:r>
              <a:rPr b="0" lang="en-US" sz="1800" spc="-1" strike="noStrike">
                <a:solidFill>
                  <a:srgbClr val="000000"/>
                </a:solidFill>
                <a:latin typeface="GeosansLight"/>
                <a:ea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osansLight"/>
                <a:ea typeface="Lucida Grande"/>
              </a:rPr>
              <a:t>- no other running costs are involved</a:t>
            </a:r>
            <a:r>
              <a:rPr b="0" lang="en-US" sz="1800" spc="-1" strike="noStrike">
                <a:solidFill>
                  <a:srgbClr val="000000"/>
                </a:solidFill>
                <a:latin typeface="GeosansLight"/>
                <a:ea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osansLight"/>
                <a:ea typeface="Lucida Grande"/>
              </a:rPr>
              <a:t>- no costs for calibration equipment</a:t>
            </a:r>
            <a:r>
              <a:rPr b="0" lang="en-US" sz="1800" spc="-1" strike="noStrike">
                <a:solidFill>
                  <a:srgbClr val="000000"/>
                </a:solidFill>
                <a:latin typeface="GeosansLight"/>
                <a:ea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osansLight"/>
                <a:ea typeface="Lucida Grande"/>
              </a:rPr>
              <a:t>- no costs or downtime for maintenance</a:t>
            </a:r>
            <a:r>
              <a:rPr b="0" lang="en-US" sz="1800" spc="-1" strike="noStrike">
                <a:solidFill>
                  <a:srgbClr val="000000"/>
                </a:solidFill>
                <a:latin typeface="GeosansLight"/>
                <a:ea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osansLight"/>
                <a:ea typeface="Lucida Grande"/>
              </a:rPr>
              <a:t>- no costs for filters, sensors, or adaptators</a:t>
            </a:r>
            <a:r>
              <a:rPr b="0" lang="en-US" sz="1800" spc="-1" strike="noStrike">
                <a:solidFill>
                  <a:srgbClr val="000000"/>
                </a:solidFill>
                <a:latin typeface="GeosansLight"/>
                <a:ea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osansLight"/>
                <a:ea typeface="Lucida Grande"/>
              </a:rPr>
              <a:t>- spirette is only accessory</a:t>
            </a:r>
            <a:r>
              <a:rPr b="0" lang="en-US" sz="1800" spc="-1" strike="noStrike">
                <a:solidFill>
                  <a:srgbClr val="000000"/>
                </a:solidFill>
                <a:latin typeface="GeosansLight"/>
                <a:ea typeface="Lucida Grande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eosansLight"/>
                <a:ea typeface="GeosansLight"/>
              </a:rPr>
              <a:t>Simple and "foolproof"</a:t>
            </a:r>
            <a:r>
              <a:rPr b="0" lang="en-US" sz="1800" spc="-1" strike="noStrike">
                <a:solidFill>
                  <a:srgbClr val="000000"/>
                </a:solidFill>
                <a:latin typeface="GeosansLight"/>
                <a:ea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osansLight"/>
                <a:ea typeface="Lucida Grande"/>
              </a:rPr>
              <a:t>- just insert spirette, ready for measurment (no bar code, no input of numbers)</a:t>
            </a:r>
            <a:r>
              <a:rPr b="0" lang="en-US" sz="1800" spc="-1" strike="noStrike">
                <a:solidFill>
                  <a:srgbClr val="000000"/>
                </a:solidFill>
                <a:latin typeface="GeosansLight"/>
                <a:ea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osansLight"/>
                <a:ea typeface="Lucida Grande"/>
              </a:rPr>
              <a:t>- the TrueFlow instrument guides you through the process of spirometry</a:t>
            </a:r>
            <a:r>
              <a:rPr b="0" lang="en-US" sz="1800" spc="-1" strike="noStrike">
                <a:solidFill>
                  <a:srgbClr val="000000"/>
                </a:solidFill>
                <a:latin typeface="GeosansLight"/>
                <a:ea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osansLight"/>
                <a:ea typeface="Lucida Grande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eosansLight"/>
                <a:ea typeface="GeosansLight"/>
              </a:rPr>
              <a:t>Maintenance free</a:t>
            </a:r>
            <a:r>
              <a:rPr b="0" lang="en-US" sz="1800" spc="-1" strike="noStrike">
                <a:solidFill>
                  <a:srgbClr val="000000"/>
                </a:solidFill>
                <a:latin typeface="GeosansLight"/>
                <a:ea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osansLight"/>
                <a:ea typeface="Lucida Grande"/>
              </a:rPr>
              <a:t>- no maintenance whatsoever is needed with spirette and TrueFlow instruments</a:t>
            </a:r>
            <a:r>
              <a:rPr b="0" lang="en-US" sz="1800" spc="-1" strike="noStrike">
                <a:solidFill>
                  <a:srgbClr val="000000"/>
                </a:solidFill>
                <a:latin typeface="GeosansLight"/>
                <a:ea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osansLight"/>
                <a:ea typeface="Lucida Grande"/>
              </a:rPr>
              <a:t>- no calibration or checking procedures are required</a:t>
            </a:r>
            <a:r>
              <a:rPr b="0" lang="en-US" sz="1800" spc="-1" strike="noStrike">
                <a:solidFill>
                  <a:srgbClr val="000000"/>
                </a:solidFill>
                <a:latin typeface="GeosansLight"/>
                <a:ea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osansLight"/>
                <a:ea typeface="Lucida Grande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eosansLight"/>
                <a:ea typeface="GeosansLight"/>
              </a:rPr>
              <a:t>Hygienic</a:t>
            </a:r>
            <a:r>
              <a:rPr b="0" lang="en-US" sz="1800" spc="-1" strike="noStrike">
                <a:solidFill>
                  <a:srgbClr val="000000"/>
                </a:solidFill>
                <a:latin typeface="GeosansLight"/>
                <a:ea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osansLight"/>
                <a:ea typeface="Lucida Grande"/>
              </a:rPr>
              <a:t>- the safest respiratory flow measurement system available</a:t>
            </a:r>
            <a:r>
              <a:rPr b="0" lang="en-US" sz="1800" spc="-1" strike="noStrike">
                <a:solidFill>
                  <a:srgbClr val="000000"/>
                </a:solidFill>
                <a:latin typeface="GeosansLight"/>
                <a:ea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osansLight"/>
                <a:ea typeface="Lucida Grande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eosansLight"/>
                <a:ea typeface="GeosansLight"/>
              </a:rPr>
              <a:t>Environmentally safe</a:t>
            </a:r>
            <a:r>
              <a:rPr b="0" lang="en-US" sz="1800" spc="-1" strike="noStrike">
                <a:solidFill>
                  <a:srgbClr val="000000"/>
                </a:solidFill>
                <a:latin typeface="GeosansLight"/>
                <a:ea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osansLight"/>
                <a:ea typeface="Lucida Grande"/>
              </a:rPr>
              <a:t>- lightweight PE, environmentally friendly, disposable and bio-degradabl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08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08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08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08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08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08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08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080" cy="563868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1440" y="762120"/>
            <a:ext cx="8128080" cy="41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434"/>
                </a:solidFill>
                <a:latin typeface="GeosansLight"/>
                <a:ea typeface="GeosansLight"/>
              </a:rPr>
              <a:t>French company created in 1987 (Toulouse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434"/>
                </a:solidFill>
                <a:latin typeface="GeosansLight"/>
                <a:ea typeface="GeosansLight"/>
              </a:rPr>
              <a:t>Main activity: conception, development, fabrication and sales of respiratory diagnostic devices called "spirometers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434"/>
                </a:solidFill>
                <a:latin typeface="GeosansLight"/>
                <a:ea typeface="GeosansLight"/>
              </a:rPr>
              <a:t>Local Market: Fran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434"/>
                </a:solidFill>
                <a:latin typeface="GeosansLight"/>
                <a:ea typeface="GeosansLight"/>
              </a:rPr>
              <a:t>Quality Certifications: </a:t>
            </a:r>
            <a:r>
              <a:rPr b="0" lang="en-US" sz="2400" spc="-1" strike="noStrike">
                <a:solidFill>
                  <a:srgbClr val="003dcc"/>
                </a:solidFill>
                <a:latin typeface="GeosansLight"/>
                <a:ea typeface="GeosansLight"/>
              </a:rPr>
              <a:t>ISO9001</a:t>
            </a:r>
            <a:r>
              <a:rPr b="0" lang="en-US" sz="2400" spc="-1" strike="noStrike">
                <a:solidFill>
                  <a:srgbClr val="3c3c3c"/>
                </a:solidFill>
                <a:latin typeface="GeosansLight"/>
                <a:ea typeface="GeosansLight"/>
              </a:rPr>
              <a:t>, </a:t>
            </a:r>
            <a:r>
              <a:rPr b="0" lang="en-US" sz="2400" spc="-1" strike="noStrike">
                <a:solidFill>
                  <a:srgbClr val="003dcc"/>
                </a:solidFill>
                <a:latin typeface="GeosansLight"/>
                <a:ea typeface="GeosansLight"/>
              </a:rPr>
              <a:t>ISO13485</a:t>
            </a:r>
            <a:r>
              <a:rPr b="0" lang="en-US" sz="2400" spc="-1" strike="noStrike">
                <a:solidFill>
                  <a:srgbClr val="3c3c3c"/>
                </a:solidFill>
                <a:latin typeface="GeosansLight"/>
                <a:ea typeface="GeosansLight"/>
              </a:rPr>
              <a:t>, </a:t>
            </a:r>
            <a:r>
              <a:rPr b="0" lang="en-US" sz="2400" spc="-1" strike="noStrike">
                <a:solidFill>
                  <a:srgbClr val="003dcc"/>
                </a:solidFill>
                <a:latin typeface="GeosansLight"/>
                <a:ea typeface="GeosansLight"/>
              </a:rPr>
              <a:t>DIR</a:t>
            </a:r>
            <a:r>
              <a:rPr b="0" lang="en-US" sz="2400" spc="-1" strike="noStrike">
                <a:solidFill>
                  <a:srgbClr val="3c3c3c"/>
                </a:solidFill>
                <a:latin typeface="GeosansLight"/>
                <a:ea typeface="GeosansLight"/>
              </a:rPr>
              <a:t> </a:t>
            </a:r>
            <a:r>
              <a:rPr b="0" lang="en-US" sz="2400" spc="-1" strike="noStrike">
                <a:solidFill>
                  <a:srgbClr val="003dcc"/>
                </a:solidFill>
                <a:latin typeface="GeosansLight"/>
                <a:ea typeface="GeosansLight"/>
              </a:rPr>
              <a:t>93/42 CE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08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08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080" cy="563868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1440" y="577800"/>
            <a:ext cx="8128080" cy="44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cc"/>
                </a:solidFill>
                <a:latin typeface="GeosansLight"/>
                <a:ea typeface="GeosansLight"/>
              </a:rPr>
              <a:t>SPIROMETRY</a:t>
            </a:r>
            <a:r>
              <a:rPr b="0" lang="en-US" sz="2400" spc="-1" strike="noStrike">
                <a:solidFill>
                  <a:srgbClr val="343434"/>
                </a:solidFill>
                <a:latin typeface="GeosansLight"/>
                <a:ea typeface="GeosansLight"/>
              </a:rPr>
              <a:t>: large range of spirometers used by pulmonologists and GP for Pulmonary Function Testing (PFT) - Asthma and COPD screen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fe"/>
                </a:solidFill>
                <a:latin typeface="GeosansLight"/>
                <a:ea typeface="GeosansLight"/>
              </a:rPr>
              <a:t>ALLERGY</a:t>
            </a:r>
            <a:r>
              <a:rPr b="0" lang="en-US" sz="2400" spc="-1" strike="noStrike">
                <a:solidFill>
                  <a:srgbClr val="343434"/>
                </a:solidFill>
                <a:latin typeface="GeosansLight"/>
                <a:ea typeface="GeosansLight"/>
              </a:rPr>
              <a:t>: full range of anti dust mite covers used by patients suffering from asthma due to their dust mites allergy - medical prescrip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fe"/>
                </a:solidFill>
                <a:latin typeface="GeosansLight"/>
                <a:ea typeface="GeosansLight"/>
              </a:rPr>
              <a:t>RADIOTHERAPY</a:t>
            </a:r>
            <a:r>
              <a:rPr b="0" lang="en-US" sz="2400" spc="-1" strike="noStrike">
                <a:solidFill>
                  <a:srgbClr val="343434"/>
                </a:solidFill>
                <a:latin typeface="GeosansLight"/>
                <a:ea typeface="GeosansLight"/>
              </a:rPr>
              <a:t>: SDX / device of breathing control in Imaging and RT using a Spirometry sensor / Voluntary breath hold method for lung, breast and liver treatm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08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08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08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08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080" cy="5638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